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35C-3405-499D-BC4B-728A3F13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321A-6574-4444-BF20-162CB0495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87A-0A54-48EA-919A-2A46B708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377-9442-4C59-B121-E8A5D2F3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E0D-E46F-462E-B053-138BAFB4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5ED-C847-473B-8A6B-2DC24582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2CF-13C5-4ACC-AF86-021AD5F4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844-E8C1-4769-BC5F-9E1DDF0D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9A9-C92F-43AF-8F38-633EDCB8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C3C-9DAB-4862-B144-6FFCD9ED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40F-ED2B-447A-B479-E2B52D91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540-7CD1-41EA-8D18-710B1032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FDC-EC6B-4CA6-83FE-3B64F15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8BA-C019-47D3-9AB9-79AAAFA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2999-473E-45C2-958A-119ECAEDB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mr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 Dónde está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. Mi llamas Semra. 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ives Queens. Yo tengo quince años. Yo soy amable y energica.  Yo tengo dos herman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565520"/>
            <a:ext cx="65736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819520" y="38098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area ¿y tú?                                                              3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1240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                                                                           Ali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¿Qué haces?                      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819520" y="2438280"/>
            <a:ext cx="3886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.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omo esta.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956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819520" y="5181480"/>
            <a:ext cx="396216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819520" y="5943600"/>
            <a:ext cx="396216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35:13Z</dcterms:created>
  <dc:creator>FriscoISD</dc:creator>
  <dc:description/>
  <dc:language>en-US</dc:language>
  <cp:lastModifiedBy>NYCDOE</cp:lastModifiedBy>
  <dcterms:modified xsi:type="dcterms:W3CDTF">2012-12-06T15:01:59Z</dcterms:modified>
  <cp:revision>105</cp:revision>
  <dc:subject/>
  <dc:title>Profile</dc:title>
</cp:coreProperties>
</file>